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A405-80EF-4D82-B82B-D2366BE1C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5AAA-E020-4D74-AD87-9BDC67EEC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7755-DEF8-4B16-8EEE-B89D6C464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F2EA-9015-4B5E-A8D4-7A5813D6A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8A21-79E1-46F6-B363-4504A43FE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5CF0-A6FB-47A6-8E72-BEF6A0243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1FC9-F99C-4758-8B5C-C3D6084BF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5765-CA7C-4302-BAB6-179F6C8F3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FE92-7529-435A-8E8B-D25A7CE63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78D4-B02D-41C0-8623-781F694DA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F61B-E275-4288-BCD4-05D97B7E5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78D2-9B28-4D46-BD78-ED2461C27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5E2AF-89AB-4325-A554-AE670186AB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/C++ Tutor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son 6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ic Data and Cloning Ob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onio Maiora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ch 12, 20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allow vs Deep Copy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ault copy constructor and assignment operator perform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hallow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ying of data from one object to an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can be very bad for objects that use pointer data members with dynamic memory allo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tion: write your own copy constructor and assignment operator that perform 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e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py of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allow Copy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lass Fo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o(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 m_pData = new char[100];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~Foo(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 delete [] m_pData;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va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har* m_pData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oid main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o a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Uses constru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o b(a)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Uses default copy constru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o c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Uses constru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 = a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Uses default assignment op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3892320" y="2438280"/>
            <a:ext cx="4948920" cy="2822040"/>
            <a:chOff x="3892320" y="2438280"/>
            <a:chExt cx="4948920" cy="2822040"/>
          </a:xfrm>
        </p:grpSpPr>
        <p:sp>
          <p:nvSpPr>
            <p:cNvPr id="66" name=""/>
            <p:cNvSpPr/>
            <p:nvPr/>
          </p:nvSpPr>
          <p:spPr>
            <a:xfrm>
              <a:off x="6484320" y="3733920"/>
              <a:ext cx="151884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00 cha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712560" y="2438280"/>
              <a:ext cx="175644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: m_p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892320" y="4114800"/>
              <a:ext cx="184176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: m_ p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016040" y="4800600"/>
              <a:ext cx="182520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: m_ p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0" name=""/>
            <p:cNvCxnSpPr>
              <a:stCxn id="68" idx="3"/>
              <a:endCxn id="66" idx="1"/>
            </p:cNvCxnSpPr>
            <p:nvPr/>
          </p:nvCxnSpPr>
          <p:spPr>
            <a:xfrm flipV="1">
              <a:off x="5740560" y="3966840"/>
              <a:ext cx="737280" cy="381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9" idx="0"/>
              <a:endCxn id="66" idx="2"/>
            </p:cNvCxnSpPr>
            <p:nvPr/>
          </p:nvCxnSpPr>
          <p:spPr>
            <a:xfrm flipH="1" flipV="1">
              <a:off x="7243200" y="4199760"/>
              <a:ext cx="686520" cy="600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2" name=""/>
            <p:cNvCxnSpPr>
              <a:stCxn id="67" idx="2"/>
              <a:endCxn id="66" idx="0"/>
            </p:cNvCxnSpPr>
            <p:nvPr/>
          </p:nvCxnSpPr>
          <p:spPr>
            <a:xfrm flipH="1">
              <a:off x="7243560" y="2905200"/>
              <a:ext cx="347760" cy="829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ep Copy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o(const Foo&amp; rhs) // Copy constru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_pData = new char[100]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emcpy(m_pData, rhs.m_pData, 100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o&amp; operator=(const Foo &amp;rhs) // Assignment op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this != &amp;rhs) // Make sure it's not the same obj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_pData = new char[100]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emcpy(m_pData, rhs.m_pData, 100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*this; // Return value pointed to by 'this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continued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oid main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o a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Uses constru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o b(a)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Uses default copy constru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o c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Uses constru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 = a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Uses default assignment op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45280" y="6095880"/>
            <a:ext cx="15188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 ch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073520" y="4800600"/>
            <a:ext cx="17564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m_p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06520" y="4800600"/>
            <a:ext cx="18417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: m_ p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415840" y="4800600"/>
            <a:ext cx="18252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: m_ p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"/>
          <p:cNvCxnSpPr>
            <a:stCxn id="79" idx="2"/>
            <a:endCxn id="82" idx="0"/>
          </p:cNvCxnSpPr>
          <p:nvPr/>
        </p:nvCxnSpPr>
        <p:spPr>
          <a:xfrm>
            <a:off x="4127400" y="5266800"/>
            <a:ext cx="5760" cy="872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" name=""/>
          <p:cNvCxnSpPr>
            <a:stCxn id="80" idx="2"/>
            <a:endCxn id="84" idx="0"/>
          </p:cNvCxnSpPr>
          <p:nvPr/>
        </p:nvCxnSpPr>
        <p:spPr>
          <a:xfrm>
            <a:off x="6329160" y="5267160"/>
            <a:ext cx="533880" cy="883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78" idx="2"/>
            <a:endCxn id="77" idx="0"/>
          </p:cNvCxnSpPr>
          <p:nvPr/>
        </p:nvCxnSpPr>
        <p:spPr>
          <a:xfrm flipH="1">
            <a:off x="1604520" y="5267160"/>
            <a:ext cx="348480" cy="82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3372840" y="6138720"/>
            <a:ext cx="15188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 ch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03080" y="6149880"/>
            <a:ext cx="15188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 ch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cal Static Vari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word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a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ic variables are essentially global variables with local sc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atic variable declared in a function will retain its value between calls to the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ic Variable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510552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OGRA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oid Foo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int value = 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++valu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intf(“Value: %d\n”, valu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oid main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 (int i=0; i&lt;10; ++i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o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943240" y="1981080"/>
            <a:ext cx="25146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UTPU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alue: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alue: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alue: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alue: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alue: 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alue: 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alue: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alue: 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alue: 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alue: 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obal Static Vari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egular global variable is said to have “external linkage” in that the variable can be used across object file (.obj) boundar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global static variable is said to have “internal linkage” in that a separate copy of the variable will be made for each object fi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ic Data Me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egular data member is created every time a object of its class is created and exists only within that in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atic data member exists even before any object of its class is created and is shared between all instances of that 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ic Data Member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lass Fo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o(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 ++m_sVar;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~Foo(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 --m_sVar;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atic int m_sVar; // Public static data mem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Must initialize static variables outside the cla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Foo::m_sVar = 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oid DisplayStatic(char label[]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ntf("%s: %d\n", label, Foo::m_sVar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continued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oid main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isplayStatic("A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o a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isplayStatic("B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/ Open up a stack fr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o b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isplayStatic("C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/ Open another stack fr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o c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isplayStatic("D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isplayStatic("E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isplayStatic("F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continued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87692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/ Create 10 Foo instances on the st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 (int i=0; i&lt;10; ++i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o d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isplayStatic("G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/ Create 10 Foo instances on the hea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/ (memory leak!!!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 (i=0; i&lt;10; ++i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o* pFoo = new Foo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isplayStatic("H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095880" y="4038480"/>
            <a:ext cx="2210040" cy="228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UTPU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: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: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: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: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: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: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: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H: 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oning Class Ob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two ways to make a copy of another obje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py construc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o a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o b(a); // b’s copy constructor will be cal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ssignment opera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o a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o b = a; // b’s constructor will be called follow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by b’s assignment op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1T16:39:58Z</dcterms:created>
  <dc:creator>Antonio Maiorano</dc:creator>
  <dc:description/>
  <dc:language>en-US</dc:language>
  <cp:lastModifiedBy>Tony</cp:lastModifiedBy>
  <dcterms:modified xsi:type="dcterms:W3CDTF">2003-08-23T18:09:35Z</dcterms:modified>
  <cp:revision>29</cp:revision>
  <dc:subject/>
  <dc:title>C/C++ Tutorial</dc:title>
</cp:coreProperties>
</file>